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1CE8-EEE7-45B7-A4FE-3FF03E84879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D7FC-2C96-4F37-8A94-32B33A1F093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A632-222F-4FEA-B2DD-80D71005EB8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2D0-EEED-4731-8D9D-D7601531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B2AC-23C1-4C64-B377-035E3501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D60E-7AFE-4F14-AB11-CC1331BE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A71B-6F36-42F8-9FD3-95631B3C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DAC2-0CE0-460C-AF3F-E3D2005C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CE57-BDF8-4D0F-A12D-EB8BB465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EAD3-61EF-4472-B73F-5B25FEBF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3816-F990-4EA7-A568-8ED7658E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B761-1F7C-426F-8A07-44BC6D25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AAE6-1ADD-4E67-81F0-E4D467F1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670B-6673-4CD4-98E7-F7EB1012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0441-60E7-4B0A-9F97-7C3FC210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6AC5-C48F-45CE-850B-8467F33F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9D9A-B561-4BE4-8AE3-73105B55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4220-7E6E-4907-9BB4-A58DA8BF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8032-466E-4ABA-961E-861EB320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6278-56CC-41C5-AC5E-46C5E318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1819-6C30-4825-A6F9-7A86AA80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1B04-4E7A-4DF9-BAE5-D4063D27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1E59-67D2-48BE-818B-24EF9404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823D-F340-40F0-9D9C-DC59BB1A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DAC0-9122-44E9-A967-3DF4BC4A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4D28-7224-4AAB-98F0-B37B73CA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63E7-3F9C-448E-BE2C-300266E8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3647-0315-4F9B-A265-4F4BF2FE7836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4341-BA1D-4CD9-A3B2-7B8A48530C36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9000"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mbri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ЭФФЕКТИВНЫЕ ФОРМЫ</a:t>
            </a:r>
            <a:br>
              <a:rPr sz="3600"/>
            </a:b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И МЕХАНИЗМЫ ПОВЫШЕНИЯ ОБРАЗОВАТЕЛЬНЫХ РЕЗУЛЬТАТОВ ОБУЧАЮЩИХС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358128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301320"/>
            <a:ext cx="8991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ПЛАН-ПРОЕКТ НАУЧНО-МЕТОДИЧЕСКОГО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СОПРОВОЖДЕНИЯ ГРУПП УЧИТЕЛЕЙ-ПРЕДМЕТНИКОВ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520" y="1143000"/>
          <a:ext cx="8229600" cy="5616720"/>
        </p:xfrm>
        <a:graphic>
          <a:graphicData uri="http://schemas.openxmlformats.org/drawingml/2006/table">
            <a:tbl>
              <a:tblPr/>
              <a:tblGrid>
                <a:gridCol w="3441600"/>
                <a:gridCol w="2768760"/>
                <a:gridCol w="2019240"/>
              </a:tblGrid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Установ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марта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полученного   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1 по результатам проверки выполнен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 контрол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сн. шк.– 4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ма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2 по результатам проверки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ма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Промежут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-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июн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1 сен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3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 контр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сн. шк.– 4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сен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ок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4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ок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тоговый семинар-конферен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ноября 201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7375e"/>
                </a:solidFill>
                <a:latin typeface="Times New Roman"/>
              </a:rPr>
              <a:t>РЕЗУЛЬТАТЫ НАУЧНО-МЕТОДИЧЕСКОГО СОПРОВОЖДЕНИЯ ГРУПП УЧИТЕЛЕЙ-ПРЕДМЕТНИКОВ В 2018 ГОД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екте было охвачен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9 челове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чальная школа; основная и средня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, иностранный язык, математика, химия, история и обществознание, физика, географ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о окол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целевых програм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овышению образовательных результатов обучающихся в урочной и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лен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научно-методических рекоменда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инятию новых управленческих решений со стороны управлений образованием, административных команд, учителей-предметников, направленных на качественную подготовку выпускников к государственной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ОБРАЗОВАТЕЛЬНЫЙ ЛИФТ – 201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520" y="9140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ая направленность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предметно-методической компетентности учителей-предмет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явление дефицитных образовательн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ка проек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ирования для их реализации (вариатив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образования, тьюторского сопровождения учащихся и др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ой принцип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невая оценка предметной и методической компетенций уч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различных форм взаимодействия в групп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образовательных результатов обучающихся в зависимости от возможностей и способностей кажд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пешная социализ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301320"/>
            <a:ext cx="8991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ПЛАН-ПРОЕКТ НАУЧНО-МЕТОДИЧЕСКОГО</a:t>
            </a:r>
            <a:br>
              <a:rPr sz="2800"/>
            </a:b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СОПРОВОЖДЕНИЯ УЧИТЕЛЕЙ-ПРЕДМЕТ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136520"/>
          <a:ext cx="8610480" cy="5567400"/>
        </p:xfrm>
        <a:graphic>
          <a:graphicData uri="http://schemas.openxmlformats.org/drawingml/2006/table">
            <a:tbl>
              <a:tblPr/>
              <a:tblGrid>
                <a:gridCol w="3600360"/>
                <a:gridCol w="3257640"/>
                <a:gridCol w="1752480"/>
              </a:tblGrid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Установ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. шк.– 8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усский язык, математика, английский язык, обществознание, химия, география, физкульту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т-апрель 2019 г.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полученного   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1 по результатам проверки выполнен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русский язык, математика, английский язык, 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й 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2 по результатам проверки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юн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Промежут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. шк.– 8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усский язык, математика, английский язык, обществознание, химия, география, физкульту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густ-сен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3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русский язык, математика, английский язык, 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н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4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тоговый семинар-конферен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и работы в рамках предметных сек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ябрь 2019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ДАНИЯ ПРОЕК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534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90360" y="838080"/>
            <a:ext cx="7391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7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«Дети не должны быть заложниками социального или культурного статуса своих сем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школы работают в трудных социальных условиях, то и они, а  не только гимназии и лицеи, работающие, как правило, с благополучными детьми, должны получать специальную поддержку – и методическую, и кадровую, и финансовую»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.В.Пу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Яковлева Надежда Геннадьевна,  научный сотрудник отдела сопровождения ФГОС ИРО ПК (р.т. 8-342- 212-21-99; с.т. 8-909-731-01-80,  </a:t>
            </a:r>
            <a:r>
              <a:rPr b="0" lang="en-U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e-mail fanni1909@yandex.r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ПРЕДЫСТОРИЯ ВОПРО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1760" y="1295280"/>
            <a:ext cx="776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каз Министерства образования и науки Пермского кр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 28.11.2014г  № СЭД-26-01-04-1037 (пункт 13.4.9. «Об утверждении Перечня краевых мероприятий краевых, объема средств и способов закупки товаров и услуг для их реализации в 2015 году»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сти бюджетные очные курс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вышения квалификации по программам дополнительного профессионального образования в рамка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аевого проекта «Образовательный лифт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учителей Александровского, Бардымского, Карагайского, Косинского, Кочёвского, Ординского, Сивинского, Соликамского, Уинского, Усольского муниципальных район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жидаемый образовательный результат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владение учителями продуктивными методами и приёмами подготовки выпускников к итоговой аттестаци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лучшение результатов ГИА и ЕГЭ по русскому языку  в данных АТЕ в 2015 году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общеобразовательная школа № 6» Александр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«Средняя общеобразовательная школа № 25» г. Губах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Средняя общеобразовательная школа №3» Гремяч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Средняя общеобразовательная школа № 1» Кизел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Госконзаводская средняя общеобразовательная школа» Куед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Основная общеобразовательная школа № 13» Лысьве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Новоильинский казачий кадетский корпус имени Атамана Ермака» Нытвенского 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Петропавловская средняя общеобразовательная школа» Октябрь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Очерская средняя общеобразовательная школа № 2» Очер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«Средняя общеобразовательная школа № 107» г. Перм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Деменевская средняя общеобразовательная школа» Чернуш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общеобразовательная школа № 91» Чус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762120" y="304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СПИСОК ОО-АП КРАЕВОГО ПРОЕКТА «ОБРАЗОВАТЕЛЬНЫЙ ЛИФТ» В 2017 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15364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РЕЗУЛЬТАТЫ НАУЧНО-МЕТОДИЧЕСКОГО СОПРОВОЖДЕНИЯ ГРУПП УЧИТЕЛЕЙ-ПРЕДМЕТНИКОВ – 2017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е было охвачен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 челове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дены практико-ориентированные курсы повышения квалификации (72 ч.) по предметам:«русский язык», «математика», «обществознание», «биология», «химия», «английский язык» – с целью подготовки к ЕГЭ, ОГЭ, по предмету «физическая культура» – с целью повышения уровня социализации обучаю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аны модели эффективной школы на базе ОУ-апробационных площадок (МБОУ «СОШ № 1» г Кизела; МБОУ «СОШ № 6» Александровского района; МКОУ «СОШ № 3» Гремячинского района; МБОУ «СОШ № 91»» Чусовского райо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формированы сетевые проблемные группы педагогов-предметников школ с НРО, НСУ (около 200 человек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уществлена диссеминация лучших методик и практ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ились инициативные центры, точки роста по обобщению лучших методик и практик по подготовке к ОГЭ и ЕГЭ по предмету, а также осуществлена трансляция их на краевом, межрегиональном уровн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НИТОРИНГОВЫЕ ИССЛЕДОВАНИЯ ШКОЛ В 2017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52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 и проведен экспертный опрос руководителей МОУО по оценке шко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и апробирована методика объективированной оценки эффективности образовательной деятельности школ (НРО, СРО, ВРО) по 17 показателям – охват 732 О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и апробирована методика объективированной оценки социальных условий (НСУ, ОНСУ, ССУ, БСУ, ВСУ) по 18 показателям – охват 702 ОО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ы сводные списки школ по объективированным показателям образовательных результатов и социальных услов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ЧТО ОЗНАЧАЕТ «ШКОЛА С НИЗКИМИ РЕЗУЛЬТАТА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школы, в которых результаты ЕГЭ, ОГЭ ниже среднерегиональных на 15 и более бал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у анализа были взяты результаты ЕГЭ, ОГЭ по русскому языку и математике за 2016 год в СОШ Пермского кра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выведен интегральный показатель и составлен рейтинг 291 СОШ (из 701 ОО Пермского кра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ому рейтингу было выявлено 55 школ, в которых интегральный показатель был ниже среднекраевого на 12 и более баллов, из них в 21 СОШ интегральный показатель был ниже среднекраевого на 14,7 и более балл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Для работы в качестве апробационных площадок было выбрано 12 школ из 12 муниципальных районов Пермского края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+   </a:t>
            </a:r>
            <a:r>
              <a:rPr b="0" lang="ru-RU" sz="32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присоединившиеся ОО по решению муниципалитетов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(участники - школы с низкими результатами обучения (НРО), функционирующие в социально неблагоприятных условиях (НСУ)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СПИСОК ОО-АП КРАЕВОГО ПРОЕКТА «ОБРАЗОВАТЕЛЬНЫЙ ЛИФТ» В 2018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редняя общеобразовательная школа №1» г. Охан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Основная общеобразовательная школа № 7» г. Краснока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Екатерининская средняя общеобразовательная школа» Сив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Чермозская средняя общеобразовательная школа им. В.Ершова» Иль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«Стряпунинская средняя общеобразовательная школа» Краснокам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Средняя общеобразовательная школа» п.Пашия Горнозавод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таро-Шагиртская средняя общеобразовательная школа» Куед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Тюндюковская средняя общеобразовательная школа» Бардым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Тюшевская средняя общеобразовательная школа» Октябрь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Усть-Туркская средняя общеобразовательная школа» Кунгур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Тисовская средняя общеобразовательная школа – Детский сад» Суксу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 «Кордонская средняя общеобразовательная школа им. М.Ю.Шатунова» Кишерт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ТЕХНИЧЕСКОЕ ЗАДАНИЕ ДЛЯ УЧИТЕЛЕЙ 2018 ГОДА.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ализ ситу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индивидуальных затруднений обучающихся при подготовке к сдаче экзамен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предметной компетентности выпускник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воды по принятию управленческих решений, направленных на повышение образовательных результатов школьник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работка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формата задания; сроков; актуальности;  целей, задач; условий (кадровых, технических, методических, социальных); планируемых результа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ан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на основе диагностики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дульн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атическ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ткосрочное (четверть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госрочное (полугодие, год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дактическое, содержательное  наполнение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илож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Jakovleva-NG</cp:lastModifiedBy>
  <dcterms:modified xsi:type="dcterms:W3CDTF">2019-04-22T08:38:27Z</dcterms:modified>
  <cp:revision>2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